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09B11-F5CE-4470-A9C2-A29B81D61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B4565-106D-4A87-A4CF-01D24497D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2F7A6-43D9-4748-8AC6-874B1C88A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B0A74-8296-479D-919E-A1F7BCA8A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7A694-9549-4212-990B-14F2C68DB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DE69E-5FE7-456A-B67A-88BFAA33B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B5D42-56FF-486B-800E-B7AFBE1F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9FA50-0A15-4AC6-A49B-1B7524E0D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00406-C5D1-4040-B907-7763F6DDE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11893-AD60-4DAA-B490-794E91CA8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785F-BAE5-4BF8-A3B8-82A0653BF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BC5A4-7C94-455C-9BAE-2D91A06F4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BE95-DB2B-4EA8-A7D2-9AC6A1D37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cs.concordia.ca/~qingz_hu/MyClass.java" TargetMode="Externa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623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Qingzhe Hu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a:t>
            </a:r>
            <a:endParaRPr b="0" lang="en-US" sz="4400" spc="-1" strike="noStrike">
              <a:solidFill>
                <a:srgbClr val="000000"/>
              </a:solidFill>
              <a:latin typeface="Arial"/>
            </a:endParaRPr>
          </a:p>
        </p:txBody>
      </p:sp>
      <p:sp>
        <p:nvSpPr>
          <p:cNvPr id="6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usage may seem to be easier than understanding.</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acuqir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re do your update work, like operate file pointer, or add new customer to table et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relea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cont.</a:t>
            </a:r>
            <a:endParaRPr b="0" lang="en-US" sz="4400" spc="-1" strike="noStrike">
              <a:solidFill>
                <a:srgbClr val="000000"/>
              </a:solidFill>
              <a:latin typeface="Arial"/>
            </a:endParaRPr>
          </a:p>
        </p:txBody>
      </p:sp>
      <p:sp>
        <p:nvSpPr>
          <p:cNvPr id="6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yclicBarrier barrier=new CyclicBarrier(RunningThreadNumber);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in the “run” of thread, add “</a:t>
            </a:r>
            <a:r>
              <a:rPr b="0" lang="zh-CN" sz="3200" spc="-1" strike="noStrike">
                <a:solidFill>
                  <a:srgbClr val="000000"/>
                </a:solidFill>
                <a:latin typeface="Arial"/>
              </a:rPr>
              <a:t>barrier.await(); “ before your job starts. Check this in “sun.com” to know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a:t>
            </a:r>
            <a:endParaRPr b="0" lang="en-US" sz="4400" spc="-1" strike="noStrike">
              <a:solidFill>
                <a:srgbClr val="000000"/>
              </a:solidFill>
              <a:latin typeface="Arial"/>
            </a:endParaRPr>
          </a:p>
        </p:txBody>
      </p:sp>
      <p:sp>
        <p:nvSpPr>
          <p:cNvPr id="6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ems easy but when do you know you need synchronization? For example, you have a server class and which method needs to be synchronized to make it “thread-sa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ass Foo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int global=100; //global da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1(){ if (glob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2(){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 local=100; //a local temporary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loc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estion: which method needs synchro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bviously the “fun1” does because it accesses a “global” variable which will be shared by other thread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ever, before you give this answer, ask yourself if you DO have multiple threads running in your class. (Does it sound absur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java, if you are extending from </a:t>
            </a:r>
            <a:r>
              <a:rPr b="0" lang="zh-CN" sz="2800" spc="-1" strike="noStrike">
                <a:solidFill>
                  <a:srgbClr val="000000"/>
                </a:solidFill>
                <a:latin typeface="Arial"/>
              </a:rPr>
              <a:t>UnicastRemoteObject then basically you will only create one single instance of your class in server and there are indeed multiple requests trying to call methods of your class. But if you are doing webservice, the servlet will be simply created whenever there is an incoming request. In other words, your servlet is running with single thread. Then why do you have to worry about “thread-saf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n can we say we don’t have to worry about thread-safe or synchronization issue in servle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answer is no if you are using static global variables. Modify the previous example a little bit by add “static” before the “global” variable, then you still need synchronization for “global” because it is “class-wise” global even you have multiple instance. i.e. All instances are sharing with “static” global variabl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a:t>
            </a:r>
            <a:endParaRPr b="0" lang="en-US" sz="4400" spc="-1" strike="noStrike">
              <a:solidFill>
                <a:srgbClr val="000000"/>
              </a:solidFill>
              <a:latin typeface="Arial"/>
            </a:endParaRPr>
          </a:p>
        </p:txBody>
      </p:sp>
      <p:sp>
        <p:nvSpPr>
          <p:cNvPr id="7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asked yourself this ques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es, we do this for reasons because synchronization is expensiv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e first scenario, all 30 threads must wait until all are cre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second scenario, you can only do your job one by on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ird scenario, you have an upper limit.(Even though this is from the nature of applic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Cont.</a:t>
            </a:r>
            <a:endParaRPr b="0" lang="en-US" sz="4400" spc="-1" strike="noStrike">
              <a:solidFill>
                <a:srgbClr val="000000"/>
              </a:solidFill>
              <a:latin typeface="Arial"/>
            </a:endParaRPr>
          </a:p>
        </p:txBody>
      </p:sp>
      <p:sp>
        <p:nvSpPr>
          <p:cNvPr id="7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art from program execution restriction (limits the number of job) the synchronization tool itself is also non-trivial which may consumes much resourc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eneral principle is to use them ONLY when necessary.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e the following example and try to ask yourself if you do need synchroniz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we need it?</a:t>
            </a:r>
            <a:endParaRPr b="0" lang="en-US" sz="4400" spc="-1" strike="noStrike">
              <a:solidFill>
                <a:srgbClr val="000000"/>
              </a:solidFill>
              <a:latin typeface="Arial"/>
            </a:endParaRPr>
          </a:p>
        </p:txBody>
      </p:sp>
      <p:sp>
        <p:nvSpPr>
          <p:cNvPr id="7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acquire(); //assume sem is a semapho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lag=true;  //flag is a global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releas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re indeed we don’t need semaphore to protect because we simply change the value of flag which is an atomic operation. (In assembly language it is indeed one singl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ynchroniz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rally speaking, synchronization is simply to place a bunch of jobs in a certain order. This is not an official definition but it satisfies for understanding. And the word “order” here has rather broad meaning. For example, one by one is also a kind of order. See the exact scen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possible solution is to assign each thread with a unique ID. For example, passing index in constructor of thread class. Then use an array of boolean variable to diffierenciate the signa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threads will simply check only one boolean variable and then set its own flag if “working” is false. Then quickly release the semaphore. So, for most of threads they will not block by th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you can also solve this by using non-blocking version of semaphore. This will be discussed la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yThread threads[]=new MyThread[10];//init ar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oolean available[]=new boolean[10]; boolean working=fa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int i=0; i&lt;10; i++){ threads[i]=new MyThread(i); available[i]=false; threads[i].st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m.acqu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f (!working){ working=true; available[MyThread::myID]=true;} sem.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f (available[MyThread::myID]) { do_a_really_long_job();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vailable[MyThread::myID]=false; working=fals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a:t>
            </a:r>
            <a:endParaRPr b="0" lang="en-US" sz="4400" spc="-1" strike="noStrike">
              <a:solidFill>
                <a:srgbClr val="000000"/>
              </a:solidFill>
              <a:latin typeface="Arial"/>
            </a:endParaRPr>
          </a:p>
        </p:txBody>
      </p:sp>
      <p:sp>
        <p:nvSpPr>
          <p:cNvPr id="8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e of the good thing about java is that it supplies many built-in synchronization mechanism. And one of the bad thing is that you may be trapped if you don’t pay atten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re is a “synchronized” key word which guaranttee the method to be “thread-safe”. However, if you don’t really understand it, the “thread-safe” would become “thread-de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 Cont.</a:t>
            </a:r>
            <a:endParaRPr b="0" lang="en-US" sz="4400" spc="-1" strike="noStrike">
              <a:solidFill>
                <a:srgbClr val="000000"/>
              </a:solidFill>
              <a:latin typeface="Arial"/>
            </a:endParaRPr>
          </a:p>
        </p:txBody>
      </p:sp>
      <p:sp>
        <p:nvSpPr>
          <p:cNvPr id="8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exact meaning of “synchronized” is to make the function “atomic”. i.e. Whenever a thread is executing a “synchronized” method, context switch will not swap other threads to execute this method. i.e. Exactly one thread is executing “synchronized” method class-wise as long as it holds the “toke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other word, if one thread is running within ONE of all “synchronized” member method, no other threads can execute ANY other “synchronized” method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a:t>
            </a:r>
            <a:endParaRPr b="0" lang="en-US" sz="4400" spc="-1" strike="noStrike">
              <a:solidFill>
                <a:srgbClr val="000000"/>
              </a:solidFill>
              <a:latin typeface="Arial"/>
            </a:endParaRPr>
          </a:p>
        </p:txBody>
      </p:sp>
      <p:sp>
        <p:nvSpPr>
          <p:cNvPr id="8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good as long as you don’t run your “while” loop within one of these “synchronized” method. Please refer to the example in my website: </a:t>
            </a:r>
            <a:r>
              <a:rPr b="0" lang="en-CA" sz="2000" spc="-1" strike="noStrike" u="sng">
                <a:solidFill>
                  <a:srgbClr val="009999"/>
                </a:solidFill>
                <a:uFillTx/>
                <a:latin typeface="Arial"/>
                <a:hlinkClick r:id="rId1"/>
              </a:rPr>
              <a:t>http://www.cs.concordia.ca/~qingz_hu/MyClass.java</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ust imagine a TCP client thread is “while” looping in one “synchronized” method waiting for a “signal” from another working thread to finish its file operation. Accidentally the working thread needs to access a “synchronized” file operation method. However, as long as TCP client thread is inside its “synchronized” method, working thread cannot enter another “synchronized” method. A dead lock is created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 Cont.</a:t>
            </a:r>
            <a:endParaRPr b="0" lang="en-US" sz="4400" spc="-1" strike="noStrike">
              <a:solidFill>
                <a:srgbClr val="000000"/>
              </a:solidFill>
              <a:latin typeface="Arial"/>
            </a:endParaRPr>
          </a:p>
        </p:txBody>
      </p:sp>
      <p:sp>
        <p:nvSpPr>
          <p:cNvPr id="9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the lesson we learn he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n’t abusively use “synchronized” key word. The TCP client thread probably will be the only user of that TCP socket accessing method. Then why do you worry about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 let’s remove the “synchronized” from TCP clie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is all?</a:t>
            </a:r>
            <a:endParaRPr b="0" lang="en-US" sz="4400" spc="-1" strike="noStrike">
              <a:solidFill>
                <a:srgbClr val="000000"/>
              </a:solidFill>
              <a:latin typeface="Arial"/>
            </a:endParaRPr>
          </a:p>
        </p:txBody>
      </p:sp>
      <p:sp>
        <p:nvSpPr>
          <p:cNvPr id="9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this all for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itely not. There is another approach for synchronization which is specificly for file access. This is lock which acts as a token for control access. And there are various kinds of file lock and they have some advantages which semaphore doesn’t have. And most importantly it seems more natural to most program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locking vs. Non-blocking</a:t>
            </a:r>
            <a:endParaRPr b="0" lang="en-US" sz="4400" spc="-1" strike="noStrike">
              <a:solidFill>
                <a:srgbClr val="000000"/>
              </a:solidFill>
              <a:latin typeface="Arial"/>
            </a:endParaRPr>
          </a:p>
        </p:txBody>
      </p:sp>
      <p:sp>
        <p:nvSpPr>
          <p:cNvPr id="9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lse should I know about synchroniz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rst of all, you should understand there are both blocking and non-blocking method for most of synchronization tools. Let’s take file lock as an example to introduce this concep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s create a file pointer.</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ndomAccessFile myFile=new RandomAccessFile("myFile.txt", "rw");</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locking vs. Non-blocking cont.</a:t>
            </a:r>
            <a:endParaRPr b="0" lang="en-US" sz="4000" spc="-1" strike="noStrike">
              <a:solidFill>
                <a:srgbClr val="000000"/>
              </a:solidFill>
              <a:latin typeface="Arial"/>
            </a:endParaRPr>
          </a:p>
        </p:txBody>
      </p:sp>
      <p:sp>
        <p:nvSpPr>
          <p:cNvPr id="9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 blocking method means the program may stop the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non-blocking method means it will return immediatel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here you need to handle the possible exception created by “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advantage is obvious because you don’t want your program stuck there for undefinitely lo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pecial about java?</a:t>
            </a:r>
            <a:endParaRPr b="0" lang="en-US" sz="4400" spc="-1" strike="noStrike">
              <a:solidFill>
                <a:srgbClr val="000000"/>
              </a:solidFill>
              <a:latin typeface="Arial"/>
            </a:endParaRPr>
          </a:p>
        </p:txBody>
      </p:sp>
      <p:sp>
        <p:nvSpPr>
          <p:cNvPr id="9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thing against intuition of programmer is that the file lock in java is mandatory which means event the owner needs to release the lock before he can modify files. So the following code may seem absurd like following:</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leLock myLock= myFile.getChannel().lock();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f you reach here, it means you get the lock. But why should I release what I just get? myLock.release(); //And here you have a synchronization flaw</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lease note the above synchronization flaw where you release the lock before you can write into file. But what if some other thread lock the file then by context switc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that we need a semaphore to protect our file lock. However, why don’t we just use semaphore instead of file lock?</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1</a:t>
            </a:r>
            <a:endParaRPr b="0" lang="en-US" sz="4400" spc="-1" strike="noStrike">
              <a:solidFill>
                <a:srgbClr val="000000"/>
              </a:solidFill>
              <a:latin typeface="Arial"/>
            </a:endParaRPr>
          </a:p>
        </p:txBody>
      </p:sp>
      <p:sp>
        <p:nvSpPr>
          <p:cNvPr id="4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You have created a demo program to simulate multiple client program to access your server simultaneously by creating a number of threads, say 30. However, the creatation of threads is a sequential job and you want them all to start at the same moment. i.e. You want the thread which is created first to wait for the thread which is created la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emaphore or file lock?</a:t>
            </a:r>
            <a:endParaRPr b="0" lang="en-US" sz="4400" spc="-1" strike="noStrike">
              <a:solidFill>
                <a:srgbClr val="000000"/>
              </a:solidFill>
              <a:latin typeface="Arial"/>
            </a:endParaRPr>
          </a:p>
        </p:txBody>
      </p:sp>
      <p:sp>
        <p:nvSpPr>
          <p:cNvPr id="100"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tentially you can always use semaphore instead of touching file lock. However, file lock is a built-in mechanism and it maybe implemented by OS which means it has the highest performance and security advantage. i.e. semaphore is “cooperative” synchronization tool, what if the programmer doesn’t even take care about your semaphore? What if you also want to protect your data against other processes? Can you us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they even are not aware of such a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se cases, file lock is your only choice because it is “mandator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a:t>
            </a:r>
            <a:endParaRPr b="0" lang="en-US" sz="4400" spc="-1" strike="noStrike">
              <a:solidFill>
                <a:srgbClr val="000000"/>
              </a:solidFill>
              <a:latin typeface="Arial"/>
            </a:endParaRPr>
          </a:p>
        </p:txBody>
      </p:sp>
      <p:sp>
        <p:nvSpPr>
          <p:cNvPr id="102"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lking about deadlock, we need to turn back again with blocking and non-blocking issue. Generally speaking, you won’t get deadlock if you are carefully using non-blocking calls. See the following exampl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ustomer A in stock broker M is trying to transfer stock S to account of customer B in stock broker N. At the same time, customer B in stock broker N is trying to transfer stock S to account of customer A.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nce transfer is an transaction, it has property of all or nothi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fore the transfer, both A and B try to lock his account and send out transfer request to each other. The transfer managers in both A and B try to lock the destination account. However, they are already locked before transfer. If we are using blocking call of “file lock”, we are deadlock.</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4"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to solve this deadlock proble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if we have more complex situations like a triangle? For example, three customers try to transfer his stock to the other in a circle mann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eneral scheme for avoiding deadlock situation is either to detect deadlock before it happens or break deadlock after it happe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deadlock detection eas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agine we have hundreds active customers who are doing transfer continuously. Do we run our deadlock detection algorithm for every transfer reque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about deadlock breaking mechanis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even we cannot detect deadlock in advance, we still can avoid deadlock by breaking it awa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t’s use “tryLock” instead “lock” which is a blocking call. If we catch the exception, we know someone else already gets the file lock and there is no way for us to finish transfer operation. The simple choice is just aborting the transaction gracefully. By doing this, we sacrifice the throughput a little bit to save us from the risk of dead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there are many other scheme for your choice, this seems to be one intuitive choic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ed vs. Asynchronized</a:t>
            </a:r>
            <a:endParaRPr b="0" lang="en-US" sz="4000" spc="-1" strike="noStrike">
              <a:solidFill>
                <a:srgbClr val="000000"/>
              </a:solidFill>
              <a:latin typeface="Arial"/>
            </a:endParaRPr>
          </a:p>
        </p:txBody>
      </p:sp>
      <p:sp>
        <p:nvSpPr>
          <p:cNvPr id="110" name="PlaceHolder 2"/>
          <p:cNvSpPr>
            <a:spLocks noGrp="1"/>
          </p:cNvSpPr>
          <p:nvPr>
            <p:ph type="subTitle"/>
          </p:nvPr>
        </p:nvSpPr>
        <p:spPr>
          <a:xfrm>
            <a:off x="539640" y="1628640"/>
            <a:ext cx="8353440" cy="4608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synchronized the goal we pursu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because it generally has low throughput and usually we prefer asynchronized mod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sometimes we don’t have choices because correctness is always the most important issu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less synchronization your program has, the less restrictions there are and the more efficient it will b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2</a:t>
            </a:r>
            <a:endParaRPr b="0" lang="en-US" sz="4400" spc="-1" strike="noStrike">
              <a:solidFill>
                <a:srgbClr val="000000"/>
              </a:solidFill>
              <a:latin typeface="Arial"/>
            </a:endParaRPr>
          </a:p>
        </p:txBody>
      </p:sp>
      <p:sp>
        <p:nvSpPr>
          <p:cNvPr id="4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 You have a global file pointer “fPtr” that multiple threads will try to use it to access file. The first thread move the pointer to location N and is ready to write data. Then context switch happens and the second thread gets chance to run which relocate the file pointer to location M. Then context switch happens again and first thread writes its data at location 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3</a:t>
            </a:r>
            <a:endParaRPr b="0" lang="en-US" sz="4400" spc="-1" strike="noStrike">
              <a:solidFill>
                <a:srgbClr val="000000"/>
              </a:solidFill>
              <a:latin typeface="Arial"/>
            </a:endParaRPr>
          </a:p>
        </p:txBody>
      </p:sp>
      <p:sp>
        <p:nvSpPr>
          <p:cNvPr id="5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You have a table for active customers of size 20. Whenever a customer login, you add his data into this table until the table is full. Whenever a customer logout, you remove his data from the table. And you have a simple “if” statement lik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cust_count&lt;20){ cust_count++; add_cust(cust_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ation scenario 3 cont.</a:t>
            </a:r>
            <a:endParaRPr b="0" lang="en-US" sz="4000" spc="-1" strike="noStrike">
              <a:solidFill>
                <a:srgbClr val="000000"/>
              </a:solidFill>
              <a:latin typeface="Arial"/>
            </a:endParaRPr>
          </a:p>
        </p:txBody>
      </p:sp>
      <p:sp>
        <p:nvSpPr>
          <p:cNvPr id="5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spot the problem of the code? What if there is context switch after the “if” statement and another customer login. Then the new customer executes the same code and write his data and after cust_count++ cust_count=20. And the first customer will create a overflow of table. Luckily you will get a crash. If your luck is bad, the program runs for a while and gives some strange resul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se three scenarios are not exactly same synchronization techniques and they all get special term for themselv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This is a barrier problem which requires all job to wait for a certain number of jobs to come. In java, you can use class “CyclicBarrier” to hold all running threads until all threads are ready to 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second scenario is a typical mutual exclusion problem which requires exclusively usage of certain type of resources like file, socket etc. In java, you can use a counting semaphore with available to be one to achieve “mutex”. i.e. Semaphore sem=new Semaphore(1, t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hird one can be called a counting semaphore problem. You have a limited resources to be allocated with potentially large number of demands. It can be regarded as a general type of mutual exclusion because “mutex” only has exactly one resource to allocate. Similarly you do like this: Semaphore sem=new Semaphore(Number_Job, tru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9:33:54Z</dcterms:created>
  <dc:creator>阳光</dc:creator>
  <dc:description/>
  <dc:language>en-US</dc:language>
  <cp:lastModifiedBy>阳光</cp:lastModifiedBy>
  <dcterms:modified xsi:type="dcterms:W3CDTF">2006-05-24T13:17:39Z</dcterms:modified>
  <cp:revision>9</cp:revision>
  <dc:subject/>
  <dc:title>Synchronization</dc:title>
</cp:coreProperties>
</file>